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96E6-AECF-402D-BBED-8627004F0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7B5B-98A4-478D-B87B-627367EAE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8243-551C-47C6-A6BC-C22D84439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7E24-1050-4EF9-83F2-CF8F87D6E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53CF-C2B4-4BB5-A14A-35CB5230F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1ED4-2993-4D27-9915-F6BF96F73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743E-E6FC-4AD8-9D56-2B58CB311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14B6-4D69-4292-AF1A-E39A823A9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0673-27DE-4AD8-98C7-162066B81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1BB3-CFAB-4B2A-88C7-60B96583C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FF73-58F9-4CC2-A2B3-0E9711A8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E17E-0E3B-4CC5-A42E-248C96C7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E4535-31F0-4048-86E6-E441A020CE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FaceSun" descr=""/>
          <p:cNvPicPr/>
          <p:nvPr/>
        </p:nvPicPr>
        <p:blipFill>
          <a:blip r:embed="rId2"/>
          <a:stretch/>
        </p:blipFill>
        <p:spPr>
          <a:xfrm>
            <a:off x="0" y="0"/>
            <a:ext cx="46069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320360" y="87480"/>
            <a:ext cx="47041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رُوحُ الرَّبِّ نَفْحُ الحَيْو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رُوحُ الرَّبِّ نَفْحُ النَّارْ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رُوحُ الرَّبِّ مُعَزِّي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يُصَلّي فينا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خُذْ قُلوبَنَا لَكَ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تَعَالَ واسْكُنْ فينا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تَعَاَلَ وخَلّصْنا يا مُحِبَّ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خُذْ أجْسَادَنا لَكَ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تَعَالَ وأشْرِقْ فينا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تَعَاَلَ وَنَوِّرْنا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يا مُحِبَّ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FaceSun" descr=""/>
          <p:cNvPicPr/>
          <p:nvPr/>
        </p:nvPicPr>
        <p:blipFill>
          <a:blip r:embed="rId2"/>
          <a:stretch/>
        </p:blipFill>
        <p:spPr>
          <a:xfrm>
            <a:off x="0" y="0"/>
            <a:ext cx="46069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884760" y="87480"/>
            <a:ext cx="48319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رُوحُ الرَّبِّ نَفْحُ الحَيْو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رُوحُ الرَّبِّ نَفْحُ النَّارْ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رُوحُ الرَّبِّ مُعَزِّي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يُصَلّي فينا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خُذ أرواحَنا لَكَ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تَعَالَ وحَرِّرنا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تَعَالَ وقَدّسْنا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يا مُحِبَّ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هَلُمَّ رُوحَ القُدْس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هَلُمَّ رُوحَ الحَقِّ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هَلُمَّ رُوحَ الآبِ يا مُحِبَّ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FaceSun" descr=""/>
          <p:cNvPicPr/>
          <p:nvPr/>
        </p:nvPicPr>
        <p:blipFill>
          <a:blip r:embed="rId2"/>
          <a:stretch/>
        </p:blipFill>
        <p:spPr>
          <a:xfrm>
            <a:off x="0" y="0"/>
            <a:ext cx="46069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922560" y="87480"/>
            <a:ext cx="47041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رُوحُ الرَّبِّ نَفْحُ الحَيْو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رُوحُ الرَّبِّ نَفْحُ النَّارْ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رُوحُ الرَّبِّ مُعَزِّي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يُصَلّي فينا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هَلُمَّ رُوحَ القُدْس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هَلُمَّ رُوحَ الحُبِّ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هَلُمَّ رُوحَ الآب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يا مُحِبَّ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8:51:00Z</dcterms:created>
  <dc:creator>USER</dc:creator>
  <dc:description/>
  <dc:language>en-US</dc:language>
  <cp:lastModifiedBy>USER</cp:lastModifiedBy>
  <dcterms:modified xsi:type="dcterms:W3CDTF">2002-10-30T19:06:26Z</dcterms:modified>
  <cp:revision>9</cp:revision>
  <dc:subject/>
  <dc:title>PowerPoint Presentation</dc:title>
</cp:coreProperties>
</file>